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5AD1-092D-4C1F-B9E8-5A9CEDD16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CA5-9D8A-4263-9A23-37F3269A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DBF7-D9C4-4487-9A85-FA670CB4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3698-42E1-4BF1-8CB1-52AC7626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11D8-CC42-4CF3-9437-5942BB8B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824-FCB2-478D-B591-22635D5B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D06-B31A-4B85-84FF-8E3D7BE9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4D3D-D74E-4A40-9968-5DE2EBF0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9B61-5E12-4E0B-A21A-37E590CA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B158-A2FF-4CA5-A35B-652486E3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262A-5A41-4AFB-86B0-83539BA2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925D-9CE8-4673-AC47-B2600428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D002-C05C-4892-BB4A-53E85CB99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6280" y="7556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El babuin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3360" y="5148360"/>
            <a:ext cx="5829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com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6280" y="7556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su agu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148360"/>
            <a:ext cx="685800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una manzan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6280" y="7556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n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3360" y="5148360"/>
            <a:ext cx="5829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la tierr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6280" y="7556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su desayun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360" y="5148360"/>
            <a:ext cx="5829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viv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6280" y="7556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encima d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3360" y="5148360"/>
            <a:ext cx="5829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la lun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6280" y="7556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est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3360" y="5148360"/>
            <a:ext cx="5829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sol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6280" y="7556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tien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3360" y="5148360"/>
            <a:ext cx="5829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una cas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6280" y="7556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3360" y="5148360"/>
            <a:ext cx="5829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alt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7556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3360" y="5148360"/>
            <a:ext cx="5829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fe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7556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piensa qu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3360" y="5148360"/>
            <a:ext cx="5829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quier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6280" y="7556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unos amigo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3360" y="5148360"/>
            <a:ext cx="5829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beb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20:49:25Z</dcterms:created>
  <dc:creator>Helen</dc:creator>
  <dc:description/>
  <dc:language>en-US</dc:language>
  <cp:lastModifiedBy>Helen</cp:lastModifiedBy>
  <dcterms:modified xsi:type="dcterms:W3CDTF">2010-05-11T20:57:47Z</dcterms:modified>
  <cp:revision>1</cp:revision>
  <dc:subject/>
  <dc:title>El babuino</dc:title>
</cp:coreProperties>
</file>